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17633"/>
        <c:axId val="89041142"/>
      </c:barChart>
      <c:catAx>
        <c:axId val="23017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41142"/>
        <c:crosses val="autoZero"/>
        <c:auto val="1"/>
        <c:lblAlgn val="ctr"/>
        <c:lblOffset val="100"/>
        <c:noMultiLvlLbl val="0"/>
      </c:catAx>
      <c:valAx>
        <c:axId val="89041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7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9C1-689A-4B68-98AD-CD6DFFE9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340-74CD-4C1E-8322-1A1A8274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C35-184A-4BAB-B552-1DABC4F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2BF-0D27-4433-ADA9-CB64C81D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219-6058-4881-9591-27C2387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563-B42D-4708-BF6F-2A9ED4B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920-FBE1-4878-A5CC-87FDC450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4EE-5151-4BE4-9E86-3567C066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A56-884F-475C-BB38-F4247E47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626-436A-4488-AB4D-84B6596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2DF-1D92-46F2-9CA2-4DB638E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3C1-1653-4DA1-8F54-DD0276A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21D2F-FC8D-4960-AF3F-63E7525C4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