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18483"/>
        <c:axId val="54091601"/>
      </c:barChart>
      <c:catAx>
        <c:axId val="43018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91601"/>
        <c:crosses val="autoZero"/>
        <c:auto val="1"/>
        <c:lblAlgn val="ctr"/>
        <c:lblOffset val="100"/>
        <c:noMultiLvlLbl val="0"/>
      </c:catAx>
      <c:valAx>
        <c:axId val="54091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18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6CA-B3CF-4446-9B96-A3F04AEE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81B-D9D6-4A6A-ABA3-E979EDC8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A26-63D0-4432-B15D-1B73140F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41D-4F23-4130-A85B-905C1555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B57-630C-4B2B-93B0-2D55BF78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928-C649-4125-91F6-F639A874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C5A-41D8-434B-B4F3-98C1240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419-879A-48C3-AD40-597DB142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F77-CCBC-44E8-AA68-70E9490E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6C8-9588-440B-BF7D-4A837FA8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8A6-3582-4177-A3EC-0F2C7AD2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242-CA83-4E64-BDA1-8CF959A7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AE686-E81C-492B-9AEF-F00FFB2CEA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