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50477"/>
        <c:axId val="78365749"/>
      </c:barChart>
      <c:catAx>
        <c:axId val="72350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65749"/>
        <c:crosses val="autoZero"/>
        <c:auto val="1"/>
        <c:lblAlgn val="ctr"/>
        <c:lblOffset val="100"/>
        <c:noMultiLvlLbl val="0"/>
      </c:catAx>
      <c:valAx>
        <c:axId val="78365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50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FEA-EA83-4C11-AA0E-A1639482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B67-E9CF-4D8F-81E7-521212FD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930-9A2A-41E1-BB2A-D208637D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1AE-4243-4054-8C72-5EC2ADF2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055-1ABE-4277-B730-5C70D902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EB4-E5A6-4951-A39D-064D71A8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20F-EBBF-40E7-B75A-491F40D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D37-EEA0-4173-A143-F92FA65A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46E-1511-4742-BD96-7B8AF78D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070-585D-475A-9D77-A3761142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5F5-DA98-459F-93EA-32CADE5F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567-950A-414E-A906-BB748485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3A8A8-3DB2-495F-B3F7-AF9A4EAD86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