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35687"/>
        <c:axId val="40226975"/>
      </c:barChart>
      <c:catAx>
        <c:axId val="85035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26975"/>
        <c:crosses val="autoZero"/>
        <c:auto val="1"/>
        <c:lblAlgn val="ctr"/>
        <c:lblOffset val="100"/>
        <c:noMultiLvlLbl val="0"/>
      </c:catAx>
      <c:valAx>
        <c:axId val="4022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35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E2E-3CB2-4494-9A47-50CDB6F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35C-0450-413C-8C6E-5C2E5B3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242-EDFC-4B70-AA6C-5F092CB1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FE2-5B0C-4823-8FFF-55561EE2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90C-D661-4870-8E8F-079C3AD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9B8-D485-4005-82AB-6108C9BD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15E-A9DD-4D5C-A457-9828EDC2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30E-9FA6-458E-9854-8DA1893A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C33-82A3-4772-BAD4-300783B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200-8120-41C8-B33B-2934444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AC5-D63C-4C21-843B-C2E2D785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16E-58CA-4CDE-9F67-0A6C3D3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3D1EE-43A1-4C92-AC39-DDB9BB84B9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