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1776013"/>
        <c:axId val="84106907"/>
      </c:barChart>
      <c:catAx>
        <c:axId val="9177601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106907"/>
        <c:crosses val="autoZero"/>
        <c:auto val="1"/>
        <c:lblAlgn val="ctr"/>
        <c:lblOffset val="100"/>
        <c:noMultiLvlLbl val="0"/>
      </c:catAx>
      <c:valAx>
        <c:axId val="8410690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77601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1C42E-7274-4074-90CE-45BD51BCB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A1F0E-FE89-458E-A971-43F8977B8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2D9E6-9D58-41FC-88A0-0ABE3B883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4FB7D-1D07-485B-816E-78A194EA7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D81D2-35B1-49E6-B451-E7311BE63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9DE35-F1BF-4275-83C6-BB1E92308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56C98-5767-437A-8E28-00A9BD659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6F8F9-6249-4D18-888A-DD50386A6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90668-69C3-4891-84C0-B7347D007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B6461-A700-4B0D-81E4-30120FE39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E179C-99C5-4318-A176-FC6EA0B31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2517E-F453-4E6A-96F9-37622115A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3EC557-9264-425E-B174-B55E4F259FC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