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01582"/>
        <c:axId val="47254764"/>
      </c:barChart>
      <c:catAx>
        <c:axId val="72201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54764"/>
        <c:crosses val="autoZero"/>
        <c:auto val="1"/>
        <c:lblAlgn val="ctr"/>
        <c:lblOffset val="100"/>
        <c:noMultiLvlLbl val="0"/>
      </c:catAx>
      <c:valAx>
        <c:axId val="47254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01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3FF-EED8-446F-AA10-3CF193AB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EEB-2EBE-4A18-8B21-5F0DA963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648-DCD3-410C-A1E4-2EB08D94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C04-1794-48C3-BC2D-B24B83AF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239-B771-469E-B98E-04BBDF5A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638-FB9A-4DB8-8392-875CAEEE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AAD-B550-403F-BC06-ED06D65E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ECB-A764-4544-AC11-9F495F2C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3A1-6FB4-4009-8EBB-6101A3ED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8C5-E19D-4A1A-95B9-0CD3F90D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5AA-1EC3-47D0-9906-FCBE1E26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04B-499A-4C3B-A2CA-0789661F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5EEA9-97D4-466D-9EC5-53A20D9843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